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99E8-E3FF-47A5-AF8E-5DFB1515BC2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50A-FD29-4B6D-B629-851B90EA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EC36-5317-4466-B60B-27743549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6A23-60A8-4577-958B-C62BF3F5A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603-1497-415C-BE29-9A8791D5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60F2-E254-4144-9C2D-C8BB6CBA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4EE4-C018-4E83-83F5-1A107A2D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AC0C-559F-4647-93BE-F7B92C22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A21F-71C8-4AF8-BD1D-918A38E6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425F-7872-40C7-9392-A1B65039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50B6-CB7B-4688-BD5D-FB3FE57E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DBF-17F3-40FD-95C3-470A1A4C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D39-4272-4AA9-B1D6-A8B925D2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ED50-2504-4B78-9D78-9013A415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10E4-5CDC-4A4A-92DD-49B9C848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3C53-3692-42A5-86C8-05D2677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68AB-5603-4A83-8286-60A35CF4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D3D3-9481-4FE3-9EAC-1E288F32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FD1-E922-46ED-86E1-462772D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0713-D2EC-4089-9286-2063D09A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D6D-F925-43B8-A112-4D780045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28E-5EB0-4310-828B-E511449C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844-E37C-42A0-B3C7-79836F45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32F-2D14-40BE-B93D-7D0961FD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5B8-43C6-495D-9DE3-A64B4D3D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E295-8A7A-47B9-9ACF-F23CF4B031A3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BF2E-42E9-413F-AC7E-4294079242F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035F-62FB-4654-8953-3B0D6B2C7718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10C5-EF2D-433B-9D69-D5157C22AD3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11500"/>
            </a:b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 Plane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ercury , Venus, Mars and Earth are called inner plan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uter Planet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Jupiter , Saturn, Uranus, Nept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y also keep moving around the Sun .This ring is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 B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encrypted-tbn2.google.com/images?q=tbn:ANd9GcQItvSu7227CuvqlftuUPgoXVXZmgOwx_EPiWE4OzBQMuWzEH4ZXQ"/>
          <p:cNvPicPr/>
          <p:nvPr/>
        </p:nvPicPr>
        <p:blipFill>
          <a:blip r:embed="rId1"/>
          <a:stretch/>
        </p:blipFill>
        <p:spPr>
          <a:xfrm>
            <a:off x="-108000" y="-12600"/>
            <a:ext cx="925200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28600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5000" y="2060640"/>
            <a:ext cx="2819520" cy="30240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lects about 1/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unlight it receives .The earth’s atmosphere scatters the light &amp; creates a blue effectn,so it is also called Blue Planet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A planetary disk of white cloud formations, brown and green land masses, and dark blue oceans against a black background. The Arabian peninsula, Africa and Madagascar lie in the upper half of the disk, while Antarctica is at the bottom."/>
          <p:cNvPicPr/>
          <p:nvPr/>
        </p:nvPicPr>
        <p:blipFill>
          <a:blip r:embed="rId1"/>
          <a:stretch/>
        </p:blipFill>
        <p:spPr>
          <a:xfrm>
            <a:off x="468360" y="2060640"/>
            <a:ext cx="2930400" cy="2932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Sumitomo\Desktop\MMG\Teaching Kids.png"/>
          <p:cNvPicPr/>
          <p:nvPr/>
        </p:nvPicPr>
        <p:blipFill>
          <a:blip r:embed="rId1"/>
          <a:stretch/>
        </p:blipFill>
        <p:spPr>
          <a:xfrm>
            <a:off x="0" y="2114640"/>
            <a:ext cx="9144000" cy="484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556000" y="3920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ww.makemegeniu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40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ot a Planet but the only satellite of the Ear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diameter of only  1/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55520" y="2060640"/>
            <a:ext cx="3845160" cy="28810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n’s gravity is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arth, so your weight would be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your weight on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887560" cy="3097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of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The planet Mars"/>
          <p:cNvPicPr/>
          <p:nvPr/>
        </p:nvPicPr>
        <p:blipFill>
          <a:blip r:embed="rId1"/>
          <a:stretch/>
        </p:blipFill>
        <p:spPr>
          <a:xfrm>
            <a:off x="684360" y="213372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also has the largest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dust storms in the Sola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Jupiter (ruler of Roman g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is the largest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Jupiter by Cassini-Huygens.jpg"/>
          <p:cNvPicPr/>
          <p:nvPr/>
        </p:nvPicPr>
        <p:blipFill>
          <a:blip r:embed="rId1"/>
          <a:stretch/>
        </p:blipFill>
        <p:spPr>
          <a:xfrm>
            <a:off x="755640" y="1916280"/>
            <a:ext cx="2849400" cy="27511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etter Understand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of 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2332080"/>
            <a:ext cx="911556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 –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Saturn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is the sixth planet from the Sun and the second largest planet in the Solar System, after Jupi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Saturn is classified as a 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gas giant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pla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31320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903600" y="6381720"/>
            <a:ext cx="73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-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 rot="1976400">
            <a:off x="7215120" y="608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http://upload.wikimedia.org/wikipedia/commons/thumb/e/e4/Uranusandrings.jpg/220px-Uranusandrings.jpg"/>
          <p:cNvPicPr/>
          <p:nvPr/>
        </p:nvPicPr>
        <p:blipFill>
          <a:blip r:embed="rId1"/>
          <a:stretch/>
        </p:blipFill>
        <p:spPr>
          <a:xfrm>
            <a:off x="324000" y="1773360"/>
            <a:ext cx="3311280" cy="31683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 rot="1976400">
            <a:off x="7394040" y="84456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Neptune from Voyager 2"/>
          <p:cNvPicPr/>
          <p:nvPr/>
        </p:nvPicPr>
        <p:blipFill>
          <a:blip r:embed="rId1"/>
          <a:stretch/>
        </p:blipFill>
        <p:spPr>
          <a:xfrm>
            <a:off x="826920" y="2060640"/>
            <a:ext cx="2799000" cy="27525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69840" y="5516640"/>
            <a:ext cx="266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821520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The Sun by the Atmospheric Imaging Assembly of NASA's Solar Dynamics Observatory - 20100819.jpg"/>
          <p:cNvPicPr/>
          <p:nvPr/>
        </p:nvPicPr>
        <p:blipFill>
          <a:blip r:embed="rId1"/>
          <a:stretch/>
        </p:blipFill>
        <p:spPr>
          <a:xfrm>
            <a:off x="539640" y="2133720"/>
            <a:ext cx="276228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6:04Z</dcterms:created>
  <dc:creator>Sumitomo</dc:creator>
  <dc:description/>
  <dc:language>en-US</dc:language>
  <cp:lastModifiedBy>Legion</cp:lastModifiedBy>
  <dcterms:modified xsi:type="dcterms:W3CDTF">2017-01-26T10:17:38Z</dcterms:modified>
  <cp:revision>26</cp:revision>
  <dc:subject/>
  <dc:title>Saturn</dc:title>
</cp:coreProperties>
</file>